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2D0-FB7B-4057-B34A-9B5A8C8E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194-AD82-4395-8EEE-733958C9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225-3F5F-4BC5-8E43-E0B2B0F7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8DB-D8D5-4F02-943C-9CED225B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EEF-BBA8-460C-9F9C-2E22A6DC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7DC-3BB1-466C-9844-6C067148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D42-66EC-4FAA-AB61-848C0C87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8D0-D970-4E32-BA0E-AE967F6E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3A1-6DAB-422C-BBA3-D0D407EA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985-17A4-4545-83C8-CE4B9180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792-DCB8-4485-A222-7F6C47F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DFC-396C-4633-A016-4BBCB7E5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e4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Berlin Sans FB Dem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7A77-ED5E-4F24-AC2C-690608F2DBDE}" type="datetime">
              <a:rPr b="0" lang="en-US" sz="1200" spc="-1" strike="noStrike">
                <a:solidFill>
                  <a:srgbClr val="898989"/>
                </a:solidFill>
                <a:latin typeface="Berlin Sans FB Dem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Berlin Sans FB Dem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BF4B-3CB5-42A2-92F6-A38E664ADBA3}" type="slidenum">
              <a:rPr b="0" lang="en-US" sz="1200" spc="-1" strike="noStrike">
                <a:solidFill>
                  <a:srgbClr val="898989"/>
                </a:solidFill>
                <a:latin typeface="Berlin Sans FB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lin Sans FB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derdog copy.jpg"/>
          <p:cNvPicPr/>
          <p:nvPr/>
        </p:nvPicPr>
        <p:blipFill>
          <a:blip r:embed="rId1"/>
          <a:stretch/>
        </p:blipFill>
        <p:spPr>
          <a:xfrm>
            <a:off x="3962520" y="2728800"/>
            <a:ext cx="4692600" cy="36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556272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How to Create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Cartoon U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Go!Animate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ccunningham@vgsd.org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6320" y="1771560"/>
            <a:ext cx="9039240" cy="4476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Choose a character(s) for your scene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380520" y="2513880"/>
            <a:ext cx="1829520" cy="25153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115320" cy="406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lick to add character motion and emo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ove the character forward or backwar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Flip the character.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73" name="Straight Arrow Connector 3"/>
          <p:cNvCxnSpPr/>
          <p:nvPr/>
        </p:nvCxnSpPr>
        <p:spPr>
          <a:xfrm flipH="1">
            <a:off x="6248160" y="1752480"/>
            <a:ext cx="1829520" cy="18295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7520" y="1886040"/>
            <a:ext cx="9020160" cy="4362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hoose a bubble and enter text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76" name="Straight Arrow Connector 3"/>
          <p:cNvCxnSpPr/>
          <p:nvPr/>
        </p:nvCxnSpPr>
        <p:spPr>
          <a:xfrm flipH="1" flipV="1">
            <a:off x="761400" y="2666160"/>
            <a:ext cx="610200" cy="25153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1920" y="2190600"/>
            <a:ext cx="9020160" cy="4362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Edit the text bub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ange the font, color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and alignmen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ove the handles.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79" name="Straight Arrow Connector 3"/>
          <p:cNvCxnSpPr/>
          <p:nvPr/>
        </p:nvCxnSpPr>
        <p:spPr>
          <a:xfrm>
            <a:off x="1371600" y="4648320"/>
            <a:ext cx="2667240" cy="9151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1920" y="1886040"/>
            <a:ext cx="9020160" cy="4438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Add objects if you choose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82" name="Straight Arrow Connector 3"/>
          <p:cNvCxnSpPr/>
          <p:nvPr/>
        </p:nvCxnSpPr>
        <p:spPr>
          <a:xfrm flipH="1" flipV="1">
            <a:off x="1676160" y="2590200"/>
            <a:ext cx="1372320" cy="25153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2560" y="1952640"/>
            <a:ext cx="9038880" cy="452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Add music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85" name="Straight Arrow Connector 3"/>
          <p:cNvCxnSpPr/>
          <p:nvPr/>
        </p:nvCxnSpPr>
        <p:spPr>
          <a:xfrm flipH="1" flipV="1">
            <a:off x="2133360" y="2742840"/>
            <a:ext cx="915120" cy="20577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160" y="1733400"/>
            <a:ext cx="9067680" cy="4438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Add special effects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88" name="Straight Arrow Connector 3"/>
          <p:cNvCxnSpPr/>
          <p:nvPr/>
        </p:nvCxnSpPr>
        <p:spPr>
          <a:xfrm flipH="1" flipV="1">
            <a:off x="2666520" y="2514600"/>
            <a:ext cx="610560" cy="26672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3480" y="2095560"/>
            <a:ext cx="9077040" cy="4076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Edit the timing of the special effect.  Remove special effects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91" name="Straight Arrow Connector 3"/>
          <p:cNvCxnSpPr/>
          <p:nvPr/>
        </p:nvCxnSpPr>
        <p:spPr>
          <a:xfrm>
            <a:off x="5486040" y="1371600"/>
            <a:ext cx="3048840" cy="129600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3480" y="2095560"/>
            <a:ext cx="9077040" cy="4076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Edit the timing of the text.  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94" name="Straight Arrow Connector 3"/>
          <p:cNvCxnSpPr/>
          <p:nvPr/>
        </p:nvCxnSpPr>
        <p:spPr>
          <a:xfrm>
            <a:off x="5486400" y="1371600"/>
            <a:ext cx="3124800" cy="9914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1280" y="1676520"/>
            <a:ext cx="9001440" cy="4438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Add (or remove) scenes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97" name="Straight Arrow Connector 3"/>
          <p:cNvCxnSpPr/>
          <p:nvPr/>
        </p:nvCxnSpPr>
        <p:spPr>
          <a:xfrm>
            <a:off x="5105160" y="4571640"/>
            <a:ext cx="2972520" cy="11437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underdog copy.jpg"/>
          <p:cNvPicPr/>
          <p:nvPr/>
        </p:nvPicPr>
        <p:blipFill>
          <a:blip r:embed="rId1"/>
          <a:stretch/>
        </p:blipFill>
        <p:spPr>
          <a:xfrm>
            <a:off x="3962520" y="2728800"/>
            <a:ext cx="4692600" cy="36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Help for Students: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219320" y="15238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 Demi"/>
              </a:rPr>
              <a:t>Storyboard</a:t>
            </a:r>
            <a:endParaRPr b="0" lang="en-US" sz="3600" spc="-1" strike="noStrike">
              <a:solidFill>
                <a:srgbClr val="000000"/>
              </a:solidFill>
              <a:latin typeface="Berlin Sans FB Dem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 Demi"/>
              </a:rPr>
              <a:t>Checklist</a:t>
            </a:r>
            <a:endParaRPr b="0" lang="en-US" sz="3600" spc="-1" strike="noStrike">
              <a:solidFill>
                <a:srgbClr val="000000"/>
              </a:solidFill>
              <a:latin typeface="Berlin Sans FB Dem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 Demi"/>
              </a:rPr>
              <a:t>Rubric</a:t>
            </a:r>
            <a:endParaRPr b="0" lang="en-US" sz="36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28600" y="37339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 Demi"/>
              </a:rPr>
              <a:t>kcworkshops.wikispaces.com</a:t>
            </a:r>
            <a:endParaRPr b="0" lang="en-US" sz="3600" spc="-1" strike="noStrike">
              <a:solidFill>
                <a:srgbClr val="000000"/>
              </a:solidFill>
              <a:latin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1280" y="1752480"/>
            <a:ext cx="9001440" cy="443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opy and paste graphics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00" name="Straight Arrow Connector 4"/>
          <p:cNvCxnSpPr/>
          <p:nvPr/>
        </p:nvCxnSpPr>
        <p:spPr>
          <a:xfrm flipH="1">
            <a:off x="4114080" y="457200"/>
            <a:ext cx="153000" cy="129600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2840" y="1781280"/>
            <a:ext cx="9058320" cy="4467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To import a graphic choo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Your Stuff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03" name="Straight Arrow Connector 4"/>
          <p:cNvCxnSpPr/>
          <p:nvPr/>
        </p:nvCxnSpPr>
        <p:spPr>
          <a:xfrm flipH="1">
            <a:off x="609120" y="609120"/>
            <a:ext cx="153360" cy="12963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4" name="Straight Arrow Connector 5"/>
          <p:cNvCxnSpPr/>
          <p:nvPr/>
        </p:nvCxnSpPr>
        <p:spPr>
          <a:xfrm>
            <a:off x="761040" y="609120"/>
            <a:ext cx="1600920" cy="16772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43000" y="1592280"/>
            <a:ext cx="6858000" cy="4884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Browse for the file.  Select a type and upload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533520" y="1218960"/>
            <a:ext cx="3658320" cy="29725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5246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Fix the position, crop, and add to Your Stuff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10" name="Straight Arrow Connector 4"/>
          <p:cNvCxnSpPr/>
          <p:nvPr/>
        </p:nvCxnSpPr>
        <p:spPr>
          <a:xfrm flipV="1">
            <a:off x="228600" y="3123360"/>
            <a:ext cx="1296000" cy="7628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Straight Arrow Connector 5"/>
          <p:cNvCxnSpPr/>
          <p:nvPr/>
        </p:nvCxnSpPr>
        <p:spPr>
          <a:xfrm>
            <a:off x="228240" y="3886200"/>
            <a:ext cx="1600920" cy="9914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Straight Arrow Connector 7"/>
          <p:cNvCxnSpPr/>
          <p:nvPr/>
        </p:nvCxnSpPr>
        <p:spPr>
          <a:xfrm>
            <a:off x="228600" y="3886200"/>
            <a:ext cx="1372320" cy="7668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1280" y="1733400"/>
            <a:ext cx="9001440" cy="4438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You can undo and redo with the Undo and Redo buttons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15" name="Straight Arrow Connector 3"/>
          <p:cNvCxnSpPr/>
          <p:nvPr/>
        </p:nvCxnSpPr>
        <p:spPr>
          <a:xfrm flipH="1">
            <a:off x="5180760" y="304560"/>
            <a:ext cx="381960" cy="144828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1280" y="1733400"/>
            <a:ext cx="9001440" cy="4438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Preview your cartoon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18" name="Straight Arrow Connector 3"/>
          <p:cNvCxnSpPr/>
          <p:nvPr/>
        </p:nvCxnSpPr>
        <p:spPr>
          <a:xfrm>
            <a:off x="7696080" y="990360"/>
            <a:ext cx="76680" cy="6865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1280" y="1733400"/>
            <a:ext cx="9001440" cy="4438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Save your cartoon.  Be sure to save it as a private cartoon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21" name="Straight Arrow Connector 3"/>
          <p:cNvCxnSpPr/>
          <p:nvPr/>
        </p:nvCxnSpPr>
        <p:spPr>
          <a:xfrm>
            <a:off x="7238520" y="914040"/>
            <a:ext cx="1220040" cy="7628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52960" cy="4800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Click on the Back to Edit button when retur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to work on your cartoon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24" name="Straight Arrow Connector 3"/>
          <p:cNvCxnSpPr/>
          <p:nvPr/>
        </p:nvCxnSpPr>
        <p:spPr>
          <a:xfrm>
            <a:off x="914400" y="3124080"/>
            <a:ext cx="1372320" cy="28965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14680" cy="4552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You can delete a cartoon.  Go to My Page.  Hover your mouse over the cartoon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27" name="Straight Arrow Connector 3"/>
          <p:cNvCxnSpPr/>
          <p:nvPr/>
        </p:nvCxnSpPr>
        <p:spPr>
          <a:xfrm flipH="1" flipV="1">
            <a:off x="6628680" y="2208960"/>
            <a:ext cx="1981800" cy="21344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14680" cy="4552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To do more editing click on the Edit button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30" name="Straight Arrow Connector 3"/>
          <p:cNvCxnSpPr/>
          <p:nvPr/>
        </p:nvCxnSpPr>
        <p:spPr>
          <a:xfrm flipH="1" flipV="1">
            <a:off x="5562000" y="1980360"/>
            <a:ext cx="1981800" cy="21344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You’ll find Go!Animate a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goanimate.com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5209920" cy="568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29718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You can also do find Edit in the Options Menu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33" name="Straight Arrow Connector 3"/>
          <p:cNvCxnSpPr/>
          <p:nvPr/>
        </p:nvCxnSpPr>
        <p:spPr>
          <a:xfrm>
            <a:off x="2895480" y="3657600"/>
            <a:ext cx="4191840" cy="14486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You can e-mail your cartoon if you saved it as public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You can embed your cartoon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You can download the cartoon for $.99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When saving y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artoon students are requir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to keep it private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609480" y="34290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Berlin Sans FB Demi"/>
              </a:rPr>
              <a:t>Inappropriate material will be removed but there may be a delay between posting and removal.</a:t>
            </a:r>
            <a:endParaRPr b="0" lang="en-US" sz="4100" spc="-1" strike="noStrike">
              <a:solidFill>
                <a:srgbClr val="000000"/>
              </a:solidFill>
              <a:latin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810320" cy="4638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290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Sign Up or Login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51" name="Straight Arrow Connector 4"/>
          <p:cNvCxnSpPr/>
          <p:nvPr/>
        </p:nvCxnSpPr>
        <p:spPr>
          <a:xfrm flipH="1">
            <a:off x="6171840" y="2665800"/>
            <a:ext cx="1905840" cy="17535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80880" y="3800520"/>
            <a:ext cx="4886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43640" cy="4773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lick on Create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55" name="Straight Arrow Connector 3"/>
          <p:cNvCxnSpPr/>
          <p:nvPr/>
        </p:nvCxnSpPr>
        <p:spPr>
          <a:xfrm flipH="1" flipV="1">
            <a:off x="6019560" y="1828440"/>
            <a:ext cx="2286720" cy="175320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33520" y="426960"/>
            <a:ext cx="3581280" cy="5821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23920" y="1447560"/>
            <a:ext cx="396252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hoose Animation Studio for your first use of Go!Animate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58" name="Straight Arrow Connector 3"/>
          <p:cNvCxnSpPr/>
          <p:nvPr/>
        </p:nvCxnSpPr>
        <p:spPr>
          <a:xfrm flipH="1" flipV="1">
            <a:off x="2056680" y="3199680"/>
            <a:ext cx="2515320" cy="21344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915160" cy="4838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hoose your cast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61" name="Straight Arrow Connector 3"/>
          <p:cNvCxnSpPr/>
          <p:nvPr/>
        </p:nvCxnSpPr>
        <p:spPr>
          <a:xfrm flipH="1">
            <a:off x="3961800" y="3657600"/>
            <a:ext cx="3886920" cy="19058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3760" y="1657440"/>
            <a:ext cx="9096480" cy="4591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Choose a theme for your cartoon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64" name="Straight Arrow Connector 3"/>
          <p:cNvCxnSpPr/>
          <p:nvPr/>
        </p:nvCxnSpPr>
        <p:spPr>
          <a:xfrm flipH="1" flipV="1">
            <a:off x="1752120" y="1980360"/>
            <a:ext cx="915120" cy="29725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400" y="2066760"/>
            <a:ext cx="9048600" cy="4029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Choose a background and choose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67" name="Straight Arrow Connector 3"/>
          <p:cNvCxnSpPr/>
          <p:nvPr/>
        </p:nvCxnSpPr>
        <p:spPr>
          <a:xfrm flipH="1">
            <a:off x="1371240" y="1447920"/>
            <a:ext cx="2363040" cy="83880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11:54Z</dcterms:created>
  <dc:creator>ccunningham</dc:creator>
  <dc:description/>
  <dc:language>en-US</dc:language>
  <cp:lastModifiedBy>ccunningham</cp:lastModifiedBy>
  <dcterms:modified xsi:type="dcterms:W3CDTF">2010-03-01T13:10:20Z</dcterms:modified>
  <cp:revision>29</cp:revision>
  <dc:subject/>
  <dc:title>Photo Alb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